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618-3072-4998-9FB3-2AA80678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D95-2B5F-4B3E-86C1-27AC4F78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16B51-869C-4209-8BED-64EFE63C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EB3A5-C734-470E-A9E8-0B4FF2A3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33A1-0BDA-440E-BA92-832F35AB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D7107-0C96-4DF3-A6B2-C6F11782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943531-4A34-4289-84AD-D3DF8703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8BFD8-62FA-4253-B526-877A179A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BAB04-D067-44E0-987C-CD646380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89372-7A26-4C94-BDFE-8D2BB481E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9D0EA-3829-4060-A208-21DAB3D8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DD4A-7167-4009-A23A-1AE3DE50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FE2-2112-43B5-A09D-B17D9240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9FE7-DDF8-461A-AFAC-39EC4195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D0EA-620F-48A2-BEA7-C96530BB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BE5D-BEA5-4F48-9B2D-31598789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DB4A-6625-4404-8D17-1AAE6DC47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1F00-29E0-4E9B-A49A-631D6EF8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E20-FF30-45D9-AAA9-16FA733A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5DC2-A1FE-4CBC-8C49-16CBA6F9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B31B-1337-4075-BC54-A8440D99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4D2A-7DDC-4B8A-9B9B-EA16AF4E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8B3C-8B99-4BAF-ADAF-3F37B9E5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811F-500F-40E0-A463-CAEFECBB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D590-D38C-45ED-8527-BEBF336E2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BB5AF-B72A-4E43-82A0-85E990B08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F610-FD53-47F9-9851-00A39FCB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D8BD-59DD-4798-AFB9-BDCDA542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1EFB-5F14-4DD8-9FED-6ADBA97C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008F-8D05-4106-A479-5A7C55B4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ECF6E-F1C6-49A0-B9DD-DDF958BD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C38-A92C-45EE-B50A-1ABFE496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1126-E4FC-4DE9-ADAF-F352F7B5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F0A9C-70AE-482B-BCDB-91A0F08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CBF06-AA2E-433D-87D7-6113D4D7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EC84-9128-41A8-990F-0E1D46CA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86E7-2DDA-4320-8ECB-1996162D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87F92-6E43-426A-8CAE-40B4999A1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3F217-8F3D-4A2F-ABDA-63032BEC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81BF5-6BC9-4004-AB31-905B3F1C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9F303-9AD8-4E41-AF8F-4A91966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80FB4-8275-4C21-8862-AE826AB2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9F0D-C75C-4F30-AD70-DCE23AFB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3192-C2D2-4345-A7B9-8B56E810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49CE-26B3-4A6F-B9F8-460E5804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3970-D5DB-4E5F-A35F-8EF95401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FA2F4-2383-4AF8-A640-81C365C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B393-5B53-4188-8F33-EFFC7A36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861B8-E2A5-4481-BE85-6A83C6B5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AA611-AB0F-4A2C-B343-92291218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61A7-A38B-4581-AB19-7871D966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1305E-4454-4C3B-BAB8-7759AD36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31748-FF01-43E0-977A-CF47CE31A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800B-7FCD-4E4F-8A11-76BF3AF9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38EDD-5617-4EB1-9F97-F4E40371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C9A6-AEEE-4BC1-85F3-827DA37C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AE362-6FFF-4D0E-BBDB-8AD3AC3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219D6-5BB5-49A0-8F3D-466C7CBE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1FA0C-9830-403D-9991-71DBFF3C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DB79-DB20-481A-B56C-39DD426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17C0A-3CBE-43A9-AAD3-9BD262C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B27B-4823-4F1D-88BB-726F7A66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218D-830C-4727-8284-F7C36E24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470E9-4271-404D-98D9-60F38F30A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568-5B25-463E-B8CC-3F8564F3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C0A9-0CFE-49ED-9B76-F274B01B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8273E-7254-4206-A0E3-3AEAAA40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C2E11-F63A-4187-82F2-5BAFE6C3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C4332-2221-4D1F-AA93-3742B62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2CE8F-18C6-4294-8565-00FEFB09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AE8C6-C0B8-4F9A-8294-779623CD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FB3C2-8B72-445A-BD2C-E5501CDB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0147-C31A-4FF5-9D79-ABA9E55A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8F494-DF9C-45E5-9B7C-80E69AD6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F5228-52F8-4D4B-8D00-B27C4F5C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7CB3-4A13-45F9-A709-25FC3F69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C300-AABB-438E-ADB2-ED766FD4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46805-0C52-40DA-A5D3-EA58E295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9B9EA-FE74-4FDD-A585-96355F3A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85CCD-6B94-4B89-AD15-7B532BB9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5F98-D568-4A37-94E1-34758556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B4EE7-4C8A-484B-AA37-D9F03211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CFC50-6ECC-4DA6-8C59-B7FC8B33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6570C-5D42-4C42-87CB-E85DF57E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93FF1-F4FF-4A50-8C5E-BEB071DC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5EF57-B4A7-4286-A531-5C388058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D44-0428-4E38-A2F2-8731C91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522D2-13FC-4EE3-9704-CB4637311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2EA45-E8D2-4143-8592-809E623C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A6858-E060-495C-BA37-8A857CE4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3FB6B-E8AF-4724-BC14-2175C9DA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0E74-0C69-49A1-9D0E-3F496138A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2D3B9-DD12-44AF-B8A4-F4A7BA8B4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9F218-3635-47BC-9D5B-F94A7F44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E784-4FF6-4F06-BB22-34076D24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DFEFF-8AAC-45B1-BFCA-0AB6F088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167E6-6F84-4961-9299-EEB08DD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7310-94CF-409B-B993-1BF2E127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DDDB0-5B77-410E-AB63-11EA4900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2C67A-6970-44DB-96FD-20A4739C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F29D2-0B82-4EC3-B8EE-1F35E300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C6921-41DD-4858-8A7C-438985F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D6C5F-A924-4099-8B9E-B23305EB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160F-1CAD-4EA2-ABD1-9604BDAE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8C9C4-675C-4C82-AAA9-A6CFA71E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92576-BCC7-4641-9BF7-7B9212C82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B54D6-8AC6-4FAA-8ABB-85F5C2F4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2E91F-C3FA-4962-A4EE-CBB4C131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C50-F54D-48B5-A2A2-FD5012FA2CB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7E54-E1C6-4B0E-8CDF-C44666CE30FD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6CCA-28B0-4B46-B352-9CA386AA762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BAC5-DA38-4CF4-A622-02BDB51C9057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885B-C7A7-4D7F-A786-E59EA2A6512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39ED-33F1-4961-8AC6-9B4A9D68FE77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B384-ADB1-48E5-922C-1A7D94C76986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A294-CA76-49DF-972C-0540B45BC711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3E0D-D193-4EDA-9C87-CCC83B6B9299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04T10:50:57Z</dcterms:modified>
  <cp:revision>9</cp:revision>
  <dc:subject/>
  <dc:title>NATURALCAMP</dc:title>
</cp:coreProperties>
</file>